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8C294-5C32-4C0A-B22F-C510020D5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1403E-207B-41E2-9C28-7D8874F58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1FC25-DF94-41F1-8149-FE294D121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54055-AC00-465A-A881-60996EEE0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6DAC1-F708-4F1D-A8F8-8ACB7FE4F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99F84-3AAB-4336-8CCC-CF1A8392F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585F9-A922-48DB-BB30-3B74B7496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7CDFA-327D-497F-81C3-B2F20B396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DF6BF-0504-4DA7-B9CF-8A29BEDCF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7377A-86A1-4996-BF8A-C156302B0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8949E-C7FE-4787-9459-4E7392715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5AE53-4DF8-4332-A022-814F24563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D843A-EBF1-4BFB-91D2-892EE5F38E2E}" type="slidenum">
              <a:rPr b="0" lang="en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1.6 Understanding Climate Patterns- Subarctic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250920" y="1844640"/>
            <a:ext cx="878508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Subarctic Animals- Dall Shee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This helps them get around the uneven ground of the mountains where they l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Dall sheep are herbivores, in the summer when food is readily available they eat grass, leaves and twigs, herbs, and shoo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In the winter lichen and moss are eaten. </a:t>
            </a:r>
            <a:br>
              <a:rPr sz="3200"/>
            </a:b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Subarctic Animals- Moo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Have a dark brown coat, white legs, hoofed feet, and a dewlap, which is the loose skin in the ch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Males have over-sized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antlers that shed a re-grow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every yea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5686560" y="3790800"/>
            <a:ext cx="3429000" cy="303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Subarctic Animals- Moo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The moose is also an herbivore and eats 40 pounds of food a da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In the summer they eat willow, birch, and aspen twig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They love to eat water plants such as lilly and pond wee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Subarctic Animals- Moo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In the winter months moose eat the needle leaves of coniferous forest. </a:t>
            </a:r>
            <a:br>
              <a:rPr sz="3200"/>
            </a:b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Subarctic Animals- Red De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The male has promin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antlers that shed every yea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In the fall, red deer grow 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thicker coat of hair and so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males grow neck man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2" descr=""/>
          <p:cNvPicPr/>
          <p:nvPr/>
        </p:nvPicPr>
        <p:blipFill>
          <a:blip r:embed="rId1"/>
          <a:stretch/>
        </p:blipFill>
        <p:spPr>
          <a:xfrm>
            <a:off x="5342040" y="1197000"/>
            <a:ext cx="378144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Subarctic Animals- Red De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Another herbivore, red deer eat grass and the leaves of shrubs and trees. Bark is eaten in the winter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Subarctic Animals- Other Anima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Russian Flying Squirr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Short Tailed Mongoo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American Lynx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2" descr=""/>
          <p:cNvPicPr/>
          <p:nvPr/>
        </p:nvPicPr>
        <p:blipFill>
          <a:blip r:embed="rId1"/>
          <a:stretch/>
        </p:blipFill>
        <p:spPr>
          <a:xfrm>
            <a:off x="4788000" y="1341360"/>
            <a:ext cx="2690640" cy="2151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3" descr=""/>
          <p:cNvPicPr/>
          <p:nvPr/>
        </p:nvPicPr>
        <p:blipFill>
          <a:blip r:embed="rId2"/>
          <a:stretch/>
        </p:blipFill>
        <p:spPr>
          <a:xfrm>
            <a:off x="5651640" y="3492360"/>
            <a:ext cx="2290680" cy="17622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4" descr=""/>
          <p:cNvPicPr/>
          <p:nvPr/>
        </p:nvPicPr>
        <p:blipFill>
          <a:blip r:embed="rId3"/>
          <a:stretch/>
        </p:blipFill>
        <p:spPr>
          <a:xfrm>
            <a:off x="3492360" y="5254560"/>
            <a:ext cx="2381400" cy="16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Subarctic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" descr=""/>
          <p:cNvPicPr/>
          <p:nvPr/>
        </p:nvPicPr>
        <p:blipFill>
          <a:blip r:embed="rId2"/>
          <a:stretch/>
        </p:blipFill>
        <p:spPr>
          <a:xfrm>
            <a:off x="250920" y="1268280"/>
            <a:ext cx="871380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Subarctic Clima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The climate of the Subarctic sub-region is continental and cold-temperate with moist, short, cool summers and long, cold winte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In winter, temperatures can drop to −40 °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In summer, the temperature may exceed +30 °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Subarctic Clima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However, the summers are short; no more than three months of the year (but at least one month) with an average temperature of 10 °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2340000" y="3357720"/>
            <a:ext cx="5761080" cy="29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Subarctic Clima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The day length is quite long with June days lasting  18.8 h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Subarctic regions are often characterized by taiga forest vege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5219640" y="4005360"/>
            <a:ext cx="2751120" cy="26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Subarctic Clima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soils remain too saturated almost throughout the year to sustain </a:t>
            </a:r>
            <a:r>
              <a:rPr b="0" i="1" lang="en-CA" sz="3200" spc="-1" strike="noStrike">
                <a:solidFill>
                  <a:srgbClr val="000000"/>
                </a:solidFill>
                <a:latin typeface="Calibri"/>
              </a:rPr>
              <a:t>any</a:t>
            </a: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 tree growt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the dominant vegetation is a peaty herbland dominated by grasses and sedg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2987640" y="4778280"/>
            <a:ext cx="214308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Subarctic Clima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Except for those areas adjacent to warm ocean currents, there is almost always continuous permafrost due to the very cold win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This means that building in most subarctic regions is very difficult and expensive: cities are very f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Subarctic Clima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An important consequence is that transportation tends to be restricted to "bush" planes, helicopters and, in summer, river boa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Subarctic Animals- Dall Shee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White to grayish coloured hollow fu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They have large curl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horn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They are hoofed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anima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4788000" y="3286080"/>
            <a:ext cx="435600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4T15:07:46Z</dcterms:created>
  <dc:creator>Jason</dc:creator>
  <dc:description/>
  <dc:language>en-US</dc:language>
  <cp:lastModifiedBy>Jason</cp:lastModifiedBy>
  <dcterms:modified xsi:type="dcterms:W3CDTF">2010-10-04T17:52:43Z</dcterms:modified>
  <cp:revision>6</cp:revision>
  <dc:subject/>
  <dc:title>1.5 Understanding Climate Patterns- Subarctic</dc:title>
</cp:coreProperties>
</file>